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95B-CE5D-481B-9FD5-795EB6C3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5C1-B11D-47E7-8226-7D0793B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45D-4044-47C6-B25C-AB65C88F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47D-AC75-4046-94C4-01714B23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6F9-8FCA-4DB2-B266-33B32EC5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208-70D8-4CEF-B454-3E59809A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A79-6E47-4434-AA87-B4D5097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503-2AF5-46F5-B147-517E8A9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BD7-6474-400E-83D5-A83CF1F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29D-DBD8-45D1-8706-5824146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A3D-369B-4BBE-BA5E-0886AFB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2DE-053C-4527-9D7E-B86868B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0486-B087-4C8A-AE8F-E65FDAFB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s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6476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ney De 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a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Ab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ube tour of site makes it easy to use for hearing impaired, sight impaired, or other disabled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444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6172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SI, n.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Parent and Stu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30960" cy="51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2520" y="655308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SI, n.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(n.d.). Retrieved from http://www.brainify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.d.). Retrieved from http://www.brainify.com/about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well, B. (2009). Newtonian Physic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 4 Force and 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Retrieved from http://www.lightandmatter.com/html_books/1np/ch04/ch04.html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ient LLC, (2010). Educational Networkin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 of Network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d from http://www.educationalnetworking.com/List+of+Networks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I. (n.d.). Retrieved from http://www.eSpecialmatch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(n.d.). Retrieved from http://www.brainify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ainify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.d.). Retrieved from http://www.brainify.com/about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well, B. (2009). Newtonian Physic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 4 Force and 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Retrieved from http://www.lightandmatter.com/html_books/1np/ch04/ch04.html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ient LLC, (2010). Educational Networkin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 of Networks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d from http://www.educationalnetworking.com/List+of+Networks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I. (n.d.). Retrieved from http://www.eSpecialmatch.com on Jan 24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Learners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600200"/>
            <a:ext cx="8000280" cy="4570920"/>
            <a:chOff x="533520" y="1600200"/>
            <a:chExt cx="8000280" cy="4570920"/>
          </a:xfrm>
        </p:grpSpPr>
        <p:cxnSp>
          <p:nvCxnSpPr>
            <p:cNvPr id="47" name="_s3092"/>
            <p:cNvCxnSpPr>
              <a:stCxn id="48" idx="0"/>
              <a:endCxn id="49" idx="2"/>
            </p:cNvCxnSpPr>
            <p:nvPr/>
          </p:nvCxnSpPr>
          <p:spPr>
            <a:xfrm flipV="1">
              <a:off x="733392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90"/>
            <p:cNvCxnSpPr>
              <a:stCxn id="51" idx="0"/>
              <a:endCxn id="52" idx="2"/>
            </p:cNvCxnSpPr>
            <p:nvPr/>
          </p:nvCxnSpPr>
          <p:spPr>
            <a:xfrm flipV="1">
              <a:off x="453384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088"/>
            <p:cNvCxnSpPr>
              <a:stCxn id="54" idx="0"/>
              <a:endCxn id="55" idx="2"/>
            </p:cNvCxnSpPr>
            <p:nvPr/>
          </p:nvCxnSpPr>
          <p:spPr>
            <a:xfrm flipV="1">
              <a:off x="1733400" y="445644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6"/>
            <p:cNvCxnSpPr>
              <a:stCxn id="49" idx="0"/>
              <a:endCxn id="57" idx="2"/>
            </p:cNvCxnSpPr>
            <p:nvPr/>
          </p:nvCxnSpPr>
          <p:spPr>
            <a:xfrm flipV="1" rot="16200000">
              <a:off x="5647680" y="1627560"/>
              <a:ext cx="572040" cy="2800800"/>
            </a:xfrm>
            <a:prstGeom prst="bentConnector3">
              <a:avLst>
                <a:gd name="adj1" fmla="val 24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3085"/>
            <p:cNvCxnSpPr>
              <a:stCxn id="52" idx="0"/>
              <a:endCxn id="57" idx="2"/>
            </p:cNvCxnSpPr>
            <p:nvPr/>
          </p:nvCxnSpPr>
          <p:spPr>
            <a:xfrm flipV="1">
              <a:off x="4533840" y="2742120"/>
              <a:ext cx="2880" cy="572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084"/>
            <p:cNvCxnSpPr>
              <a:stCxn id="55" idx="0"/>
              <a:endCxn id="57" idx="2"/>
            </p:cNvCxnSpPr>
            <p:nvPr/>
          </p:nvCxnSpPr>
          <p:spPr>
            <a:xfrm flipH="1" flipV="1" rot="5400000">
              <a:off x="2847600" y="1627920"/>
              <a:ext cx="572040" cy="2800800"/>
            </a:xfrm>
            <a:prstGeom prst="bentConnector3">
              <a:avLst>
                <a:gd name="adj1" fmla="val 24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080"/>
            <p:cNvSpPr/>
            <p:nvPr/>
          </p:nvSpPr>
          <p:spPr>
            <a:xfrm>
              <a:off x="3333600" y="160020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 of technology 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ress all student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1"/>
            <p:cNvSpPr/>
            <p:nvPr/>
          </p:nvSpPr>
          <p:spPr>
            <a:xfrm>
              <a:off x="53352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ll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2"/>
            <p:cNvSpPr/>
            <p:nvPr/>
          </p:nvSpPr>
          <p:spPr>
            <a:xfrm>
              <a:off x="333360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T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3"/>
            <p:cNvSpPr/>
            <p:nvPr/>
          </p:nvSpPr>
          <p:spPr>
            <a:xfrm>
              <a:off x="6133680" y="331416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cial Educa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instreamed Lear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87"/>
            <p:cNvSpPr/>
            <p:nvPr/>
          </p:nvSpPr>
          <p:spPr>
            <a:xfrm>
              <a:off x="53352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d for tutoring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itional instruction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f-paced learn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9"/>
            <p:cNvSpPr/>
            <p:nvPr/>
          </p:nvSpPr>
          <p:spPr>
            <a:xfrm>
              <a:off x="333360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d to extend learning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challenge, or t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utor other stud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091"/>
            <p:cNvSpPr/>
            <p:nvPr/>
          </p:nvSpPr>
          <p:spPr>
            <a:xfrm>
              <a:off x="6133680" y="5028480"/>
              <a:ext cx="2400120" cy="114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chnology can be u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education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port, tutoring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ecial services, and h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 of Technology use in the Classroo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he way they network outsid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eliable academic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all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social network where students are more confident because of anonym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all users Brainify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6840" y="1727280"/>
            <a:ext cx="4270320" cy="4270320"/>
            <a:chOff x="2436840" y="1727280"/>
            <a:chExt cx="4270320" cy="4270320"/>
          </a:xfrm>
        </p:grpSpPr>
        <p:sp>
          <p:nvSpPr>
            <p:cNvPr id="64" name="_s5130"/>
            <p:cNvSpPr/>
            <p:nvPr/>
          </p:nvSpPr>
          <p:spPr>
            <a:xfrm flipH="1">
              <a:off x="3503520" y="386244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2436840" y="3328920"/>
              <a:ext cx="1066680" cy="1067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okmar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cade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32"/>
            <p:cNvSpPr/>
            <p:nvPr/>
          </p:nvSpPr>
          <p:spPr>
            <a:xfrm>
              <a:off x="4572000" y="4395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31"/>
            <p:cNvSpPr/>
            <p:nvPr/>
          </p:nvSpPr>
          <p:spPr>
            <a:xfrm>
              <a:off x="4038480" y="4930920"/>
              <a:ext cx="1067040" cy="10666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to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k a 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36"/>
            <p:cNvSpPr/>
            <p:nvPr/>
          </p:nvSpPr>
          <p:spPr>
            <a:xfrm>
              <a:off x="5105520" y="386244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5135"/>
            <p:cNvSpPr/>
            <p:nvPr/>
          </p:nvSpPr>
          <p:spPr>
            <a:xfrm>
              <a:off x="5640480" y="3328920"/>
              <a:ext cx="1066680" cy="10670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rn b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ilding 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ade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34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33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er Friend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512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ainify.c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64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8380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page is easy to use and you don’t have to be a member to sear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5530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rainify, n.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earch, real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2840" y="1600200"/>
            <a:ext cx="437832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4080" y="624852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owell,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ify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, don’t have to be 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ookmarking of academic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ed to include only academi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of sites orders by most specific to search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nd Share academic websites in a soci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question to the academic community and get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Needs Students and Par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match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parents with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community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deas, strategies, and help for your student’s individ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and communicate with other families who have the same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businesses, social activities and events, and services for people with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8:33:16Z</dcterms:created>
  <dc:creator>kisd</dc:creator>
  <dc:description/>
  <dc:language>en-US</dc:language>
  <cp:lastModifiedBy>kisd</cp:lastModifiedBy>
  <dcterms:modified xsi:type="dcterms:W3CDTF">2010-01-25T20:06:01Z</dcterms:modified>
  <cp:revision>8</cp:revision>
  <dc:subject/>
  <dc:title>Information Systems in the Classroom</dc:title>
</cp:coreProperties>
</file>